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C63-E2C4-4827-A931-0FC1BC5D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05B-7494-4D0E-9E8C-BA79797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77A-3262-4496-9114-56763AB7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356-7356-4F98-A8EA-59638FC0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6C8-E255-49ED-B2BC-A78F22C1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BDD-E6C5-4C0B-851C-1FFFD95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93B-10FD-4AA0-8752-FFB749C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D41-15A1-4591-B05B-7ED5DC6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325-3CDC-4DFC-B5C4-42D2D1A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C8C-7901-476B-8DD6-6646B672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300-8ED6-4781-B092-FDA5CC0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FEE-5630-4D50-B9A2-569C44CB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A4D-B381-495A-BE55-B7BDA5A8704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1 Hospodin nás viedol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ospodin nás viedol sám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o svojej láskavosti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reto hľaďme s dôverou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j do budúcnos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lal pomoc v pravý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žitia ties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cky nový dôvod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vďačnej srdca pies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ruka prikrát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dy nebýva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istovi nám najväčš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lad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nám aj dnes po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ec hojné dar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ojej láske verný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pezlivý,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om sa nám môže z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omocou, že meš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uka jeho láskav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 nás i tre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bludnej cesty odvrac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 k vodám živ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lené paži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stier milostiv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spodin vždy s nami bo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láske neskona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m svojím ramen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vedie nás ďal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a tmách nás nenech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mocne sa zmie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vedie až do ci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svoje dieť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36:14Z</dcterms:modified>
  <cp:revision>93</cp:revision>
  <dc:subject/>
  <dc:title>Je veľký náš Pán, on slávy je Kráľ Nech do všetkých strán  spev vrúcnych znie chvál.</dc:title>
</cp:coreProperties>
</file>